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551-B6B1-4043-860D-17073BAF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11B-AFDF-4D50-9634-B61AC05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C70-15F1-4D56-A612-43DD8D4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228-3A6A-4A10-AE5A-B4F78E37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800A-6939-4E77-AB79-100AA8FB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A88-3A77-4378-9AAF-C90C389C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82F4-23AD-4FE0-89A1-298A502E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8E63-6A9F-44D0-8AB3-E45C71F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F65D-7045-440A-AE1F-D9028BC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AB3-6B06-43D7-BB48-AFA012A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F6B1-57C4-4EAF-AE96-EF89099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A4A-4392-47A8-B8AA-2C90391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7E1-FF9B-4425-B442-D02F3AB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A8B6-E5C6-4C0F-B73C-63A227F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B29-DFE9-435D-96F2-4DB0AE7E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5B02-1C9B-46DD-A9F1-ECBF6FA9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8B87-11A2-4C4E-8FA8-17C45C40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A1A-AE07-4866-BAEB-D9B9F79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F9A-CBA0-4A11-9950-E998CCD9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2F2-AA85-4736-A839-9D0B153D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8F2-F7B0-477E-AB55-21B9288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530-381D-4FC8-B1B8-A239A58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94B-00DC-4C81-A94A-6F74F9F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C77-45D0-46CE-865D-95FD980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94B-EE61-4291-9D94-2E2ACD87B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1E38-5FDF-48BA-8A1A-A2C053F6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Animal Adoption</a:t>
            </a:r>
            <a:br>
              <a:rPr sz="41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ow to write a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research question</a:t>
            </a:r>
            <a:endParaRPr b="0" i="1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yan Schil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ank you for your tim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7815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ar Zookeeper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am please to inform you that your zoo has been choose to be the recipient of a new animal donation.  Mr. and Mrs. Gates are very excited to be adding a sea otter to your zoo.  They have already ordered the animal to transported to you zoo.  Next week, you will be receiving the new addition.  I hope you can prepare an exhibit to house the animal in tim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nk you and good luck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r. Larry He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uild background knowled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gin a class discussion building background knowledge about zoo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y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y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n exhib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exhibit are designed the way they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4065" t="33381" r="15659" b="25004"/>
          <a:stretch/>
        </p:blipFill>
        <p:spPr>
          <a:xfrm>
            <a:off x="917640" y="2898720"/>
            <a:ext cx="6854760" cy="3044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roduce the proble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each student their adoption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5452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Jenkins v2.0"/>
              </a:rPr>
              <a:t>hy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fine the tas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k students what they need to do in order solve the probl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 them to the idea of research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fore they can start they need to know what they are going to resear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rite a research ques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three non-examples to develop criteria of what makes a good research ques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ach students how to fix questions that do not fit the crit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ach students how to self-assess their question after developing 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ess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create 1 to 3 questions they need to research in order to solve the problem of creating an exhibit for their anim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fill out a self-assessment scoring guide and then turn it when they feel that it is ready to be research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6405" t="19791" r="17188" b="18753"/>
          <a:stretch/>
        </p:blipFill>
        <p:spPr>
          <a:xfrm>
            <a:off x="457200" y="533520"/>
            <a:ext cx="815328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uture phase of the projec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then finish the research at home over Thanksgiving break.  They return to school with a drawing or model of the animal exhibit.  Then the exhibit is presented to the clas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43:51Z</dcterms:created>
  <dc:creator>ITS</dc:creator>
  <dc:description/>
  <dc:language>en-US</dc:language>
  <cp:lastModifiedBy>ITS</cp:lastModifiedBy>
  <dcterms:modified xsi:type="dcterms:W3CDTF">2011-02-22T22:33:06Z</dcterms:modified>
  <cp:revision>3</cp:revision>
  <dc:subject/>
  <dc:title>Animal Adoption</dc:title>
</cp:coreProperties>
</file>